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288-FAA6-435F-9AB9-16DD91E0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EF7-5199-4C3F-9AA8-F2542BF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3B5-540A-4A7C-BE4D-4754C96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317-3B06-436B-8AB2-698912F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463-0FAB-46DF-839E-339C9C8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AD21-2179-4536-8C0A-6DF01AF4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E817-2FBF-455E-8599-F4558CB5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170C-0673-4BE5-AA81-D361360C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3C2-5C9A-42AD-8A5D-274829E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C40-800D-4052-AB9E-732C5543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B455-D0A8-4972-8FB9-1FA5ECB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936-9096-42D2-8F03-67749DF6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059D-8DB2-4375-B2B9-910D65B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E9F5-6F92-4E29-9CA3-4EB19E9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6281-2B2F-43F7-90F1-4393ED3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3C0F-8BD8-45E0-A70E-A863CE2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D1DF-A901-42C1-8D87-32F00059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54E-9ECC-4146-98E5-1B000B8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594-82E0-484A-AAA1-870E6124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A3F-DF85-49FA-905B-7612E741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9D6-25B4-4967-A431-618F0D7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41D-2F93-4B1A-9051-D231756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26C-1118-40DB-8332-40D9505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8D5-0629-4648-8517-1922A0D9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7B86-D52E-4194-A213-F333E4EB8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92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B34C-A822-4EA3-A16C-C8694CC07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stawową jednostką długości stosowaną w Polsce do początków XX wieku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stosowany do mierzenia tekstyliów i krótszych przedmio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ługości łokcia były ustalane lokalnie dlatego różniły się one miedzy sobą. Na początku XVI wieku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ieć krakow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był krótszy o 14 cm od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cia lwowskieg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ną jednostką miary długości był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która służyła między innymi do mierzenia odległości np. przy sadzeniu kartof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ostką służącą do mierzenia głównie drewna, sieci oraz dłuższych przedmiotów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12" descr="http://www.qdnet.pl/unas/nr35/miary_1.JPG"/>
          <p:cNvPicPr/>
          <p:nvPr/>
        </p:nvPicPr>
        <p:blipFill>
          <a:blip r:embed="rId1"/>
          <a:stretch/>
        </p:blipFill>
        <p:spPr>
          <a:xfrm>
            <a:off x="1835280" y="549360"/>
            <a:ext cx="900000" cy="5184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5805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Łokieć polski z 1651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20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TAROPOLSKIE JEDNOSTKI DŁUG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6764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4" descr=""/>
          <p:cNvPicPr/>
          <p:nvPr/>
        </p:nvPicPr>
        <p:blipFill>
          <a:blip r:embed="rId1"/>
          <a:stretch/>
        </p:blipFill>
        <p:spPr>
          <a:xfrm>
            <a:off x="1150920" y="173664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Obraz 16" descr=""/>
          <p:cNvPicPr/>
          <p:nvPr/>
        </p:nvPicPr>
        <p:blipFill>
          <a:blip r:embed="rId2"/>
          <a:stretch/>
        </p:blipFill>
        <p:spPr>
          <a:xfrm>
            <a:off x="6551640" y="1089000"/>
            <a:ext cx="93168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5" descr=""/>
          <p:cNvPicPr/>
          <p:nvPr/>
        </p:nvPicPr>
        <p:blipFill>
          <a:blip r:embed="rId3"/>
          <a:stretch/>
        </p:blipFill>
        <p:spPr>
          <a:xfrm>
            <a:off x="1332000" y="3824280"/>
            <a:ext cx="1379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7" descr=""/>
          <p:cNvPicPr/>
          <p:nvPr/>
        </p:nvPicPr>
        <p:blipFill>
          <a:blip r:embed="rId4"/>
          <a:stretch/>
        </p:blipFill>
        <p:spPr>
          <a:xfrm>
            <a:off x="3708360" y="1628640"/>
            <a:ext cx="172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9" descr=""/>
          <p:cNvPicPr/>
          <p:nvPr/>
        </p:nvPicPr>
        <p:blipFill>
          <a:blip r:embed="rId5"/>
          <a:stretch/>
        </p:blipFill>
        <p:spPr>
          <a:xfrm>
            <a:off x="6372360" y="4044960"/>
            <a:ext cx="177480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Obraz 18" descr=""/>
          <p:cNvPicPr/>
          <p:nvPr/>
        </p:nvPicPr>
        <p:blipFill>
          <a:blip r:embed="rId6"/>
          <a:stretch/>
        </p:blipFill>
        <p:spPr>
          <a:xfrm>
            <a:off x="3770280" y="4508640"/>
            <a:ext cx="1602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92000" y="3068640"/>
            <a:ext cx="27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ońcem najdłuższego palca st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od łokcia do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2720" y="3068640"/>
            <a:ext cx="16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ło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czterech palców rę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06864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ięd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końcem kciuka i końcem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5008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r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jednej a piętą drugiej stopy podczas chodz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32360" y="5950080"/>
            <a:ext cx="27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rozpostartych ramion – tą jednostkę wymierzano ścięte drzewo układane w stosy zwane sąg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Podaj, jakie jednostki długości 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występują w wierszach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2349360"/>
            <a:ext cx="4321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Jean de La Fontaine - </a:t>
            </a:r>
            <a:r>
              <a:rPr b="0" i="1" lang="pl-PL" sz="1600" spc="-1" strike="noStrike">
                <a:solidFill>
                  <a:srgbClr val="3366ff"/>
                </a:solidFill>
                <a:latin typeface="Arial"/>
              </a:rPr>
              <a:t>Żółw i zają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hyży, wysmukły i zwrotny zając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potkał żółwia jakoś przebiegając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Jak się masz, moja ty skorupo! - rzecze. -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to się waszmość tak pomału wlecze?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ój Boże! Cóż to za układ natury!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nie w biegu i sam wiatr nie upędzi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Żółw na godzinę, w swym chodzie ponury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Ledwo upełznie trzy piędzi."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Hola! - odpowie - mój ty wiatron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miem ja chodzić i odbywam dr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ogę i ciebie ubiec do celu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08280"/>
            <a:ext cx="28814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Maria Kryńska–Szos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moim ogrodzie są stud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yschnięte na cztery sąż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amion twych nie wystarcz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by objąć ani dosięgnąć d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łez by napełnić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156200"/>
            <a:ext cx="32400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Vicin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 bezludnej wysiąść wyspi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ogromny pałac sto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nim kominek – oczywiśc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bibliotece mnóstwo książe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w sypialni z baldachimem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toi łoże na sześć łokci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-17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000" y="10890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znaczanie długości odcink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1449360"/>
            <a:ext cx="73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cinek MN jest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odcinkiem jednostkowy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 zapisujemy |MN| = 1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zytamy: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długość odcinka MN jest równ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349360"/>
            <a:ext cx="215892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28432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2168640"/>
            <a:ext cx="5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1280" y="23414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882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28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3338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ysujemy prostą a, po czym odkładamy na niej odcinek MN za pomocą cyrk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0920" y="5950080"/>
            <a:ext cx="73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52000" y="558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464200">
            <a:off x="92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464200">
            <a:off x="151092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464200">
            <a:off x="209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2464200">
            <a:off x="2680920" y="4059360"/>
            <a:ext cx="1906560" cy="19065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422360" y="5950080"/>
            <a:ext cx="2656080" cy="368280"/>
            <a:chOff x="1422360" y="5950080"/>
            <a:chExt cx="2656080" cy="368280"/>
          </a:xfrm>
        </p:grpSpPr>
        <p:sp>
          <p:nvSpPr>
            <p:cNvPr id="134" name=""/>
            <p:cNvSpPr/>
            <p:nvPr/>
          </p:nvSpPr>
          <p:spPr>
            <a:xfrm>
              <a:off x="1422360" y="595008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2360" y="59500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21280" y="4194000"/>
            <a:ext cx="322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Odcinek MN mieści się 4 razy w odcinku KL, zatem długość odcinka KL równa się 4, co zapisujemy |KL|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-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24" descr=""/>
          <p:cNvPicPr/>
          <p:nvPr/>
        </p:nvPicPr>
        <p:blipFill>
          <a:blip r:embed="rId1"/>
          <a:srcRect l="1585" t="6590" r="1303" b="8112"/>
          <a:stretch/>
        </p:blipFill>
        <p:spPr>
          <a:xfrm>
            <a:off x="1476360" y="3500280"/>
            <a:ext cx="7056360" cy="1516320"/>
          </a:xfrm>
          <a:prstGeom prst="rect">
            <a:avLst/>
          </a:prstGeom>
          <a:ln w="0">
            <a:noFill/>
          </a:ln>
        </p:spPr>
      </p:pic>
      <p:pic>
        <p:nvPicPr>
          <p:cNvPr id="14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1476360" y="1268280"/>
            <a:ext cx="7059600" cy="151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3573360"/>
            <a:ext cx="3959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28464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3284640"/>
            <a:ext cx="2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51577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ługość odcinka AB równa się 12 cm, co zapisujemy |AB| = 1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464200">
            <a:off x="6556320" y="2285640"/>
            <a:ext cx="2587680" cy="258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7164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76500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3720" y="1263600"/>
            <a:ext cx="76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mierzanie długości odcinka za pomocą cyrkla i linij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25520" y="1805040"/>
            <a:ext cx="65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y jest odcinek KL. Odmierzamy jego długość za pomocą cyrkla i przykładamy do linij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2166840" y="5353200"/>
            <a:ext cx="5591160" cy="120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58120" y="4871880"/>
            <a:ext cx="7808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7880" y="493236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KL|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4.07407E-006 L -0.55886 0.07893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1557360"/>
            <a:ext cx="5834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Verdana"/>
              </a:rPr>
              <a:t>Ćwiczeni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rysuj dowolny odcinek. Obierz odcinek jednostkowy i zmierz długość odcinka za pomocą cyrkla i linij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DŁUGOŚCI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ŻYWANE NAJCZĘŚCI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989000"/>
            <a:ext cx="41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ilimetr – 1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centymetr – 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decymetr – 1 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etr – 1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kilometr – 1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LEŻNOŚCI MIĘDZY JEDNOSTKAMI DŁUG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060640"/>
            <a:ext cx="75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dm = 10 cm = 1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m = 10 dm = 100 cm = 1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km = 1 000 m = 10 000 dm = 100 000 c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= 1 000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0:36:11Z</dcterms:created>
  <dc:creator>Darek</dc:creator>
  <dc:description/>
  <dc:language>en-US</dc:language>
  <cp:lastModifiedBy>Darek</cp:lastModifiedBy>
  <dcterms:modified xsi:type="dcterms:W3CDTF">2013-08-17T20:50:27Z</dcterms:modified>
  <cp:revision>15</cp:revision>
  <dc:subject/>
  <dc:title>Slajd 1</dc:title>
</cp:coreProperties>
</file>